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C08-C522-40F8-81B0-E74F8D86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A6B-6490-46CF-B63F-74AC5696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CE2-E5CB-4FDA-ACA5-A4ED9284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B22-6FF3-4774-8D98-430ECEA8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9E2-B428-4704-9806-2421B4F5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B65-D860-429A-B344-BA80975D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373-1DBC-4746-BDE0-94D20D19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920E-E759-42A7-A7C6-56A51A0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AE6-930D-4E2D-A499-C8C664AF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900-3196-4772-9E3A-8F839A2B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9BD-7081-46F1-B7F5-16C635A2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DED-0612-4F1F-83C5-9255884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3035-B703-4D90-9570-DB4212FC0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sssystem.blogspot.com/2010/01/components-of-decision-support-systems.html#:~:text=A%20typical%20Decision%20support%20systems,management%20and%20user%20interface%20management.&amp;text=The%20data%20management%20component%20performs,Decision%20Support%20System%20to%20use.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ngati.com/glossary/decision-support-syste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1219320"/>
            <a:ext cx="5029200" cy="838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-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aging Decision Making and Problem Solv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dvantages of Group Decision Making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More information and knowledg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Generation of more alternativ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More acceptance of final deci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Enhanced communic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Better decision may be take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Enhanced employee particip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Easy implement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Good management –employee relatio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isadvantages of Group Decision Making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Time consuming &amp; costl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oblems of prompt decis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Indecisivenes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Sufferings of general employe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Dominating tendencies may gro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Groupthink may occ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Inter –group conflict may eme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nsidering Factors of Decision Making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dentifying the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asonable analys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Availability of recent data/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Goal achieve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Cooperation from all corn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Past experi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Possibility of accept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Sufficient/reasonable time for execu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Normal chan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Flexibi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.Ready alternative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arriers to Decision Making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Scarcity of fu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Lack of raw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Unskilled manage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Labor unre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Risk aversion(unwillingness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Defect in formulating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Unavailability of recent data/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Lack of management’s commitm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Lack of implementing labor for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Reluctance to accept suggestion/s</a:t>
            </a:r>
            <a:br>
              <a:rPr sz="3200"/>
            </a:b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(Reverse the points for overcoming these barrier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cision Support System (DSS)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ision support system is an information system that supports business or organizational decision-making activities. A decision support system (DSS) is a computerized program used to support determinations, judgments, and courses of action in an organization or a business. A DSS sifts through and analyzes massive amounts of data, compiling comprehensive information that can be used to solve problems and in decision-mak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mponents of Decision Support Syst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data management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model management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knowledge managemen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user interface management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ata management component performs the function of storing and maintaining the information that you want your Decision Support System to use.</a:t>
            </a:r>
            <a:br>
              <a:rPr sz="3600"/>
            </a:b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_x000b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in Functions of Decision Support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odel build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'what-if'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goal see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risk analysi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graphical analysis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dvantages of Decision Support System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Speed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 support systems make it possible for users to take informed decisions quickly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Lower scope for error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data fed into the system is relevant and accurate, the output data will be accurate.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3.Communication.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.Automation.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5.Cost-effectivene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600"/>
            </a:b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_x000b_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65530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finition of Decision 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process of selecting one best alternative among the many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ypes of decision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1. Programmed Deci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2. Non- programmed Deci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ecision Making Condi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Decision making under certain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Decision making under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Decision making under uncertain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85800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ional Perspective on Decision Mak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classical model of deci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t is a prescriptive approach that tells managers how they should  make logical and rational  decisions which will serve organization’s maximum intertest. The following figure shows the classical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3352680"/>
            <a:ext cx="2057400" cy="17528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ed with a decision , managers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 flipH="1">
            <a:off x="2666880" y="2895480"/>
            <a:ext cx="2895840" cy="28958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Obtain complete &amp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Elimin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Evaluate everyt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ly&amp; log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095880" y="3429000"/>
            <a:ext cx="2590920" cy="16765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nd up with a decision that best serves the interests of the organizat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ight Arrow 5"/>
          <p:cNvSpPr/>
          <p:nvPr/>
        </p:nvSpPr>
        <p:spPr>
          <a:xfrm>
            <a:off x="2057400" y="4267080"/>
            <a:ext cx="533520" cy="460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ight Arrow 6"/>
          <p:cNvSpPr/>
          <p:nvPr/>
        </p:nvSpPr>
        <p:spPr>
          <a:xfrm>
            <a:off x="5562720" y="4267080"/>
            <a:ext cx="457200" cy="460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Steps in Rational Decision Making </a:t>
            </a: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ing and defining the decision situ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Identifying alternativ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valuating alternativ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Selecting an alternati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Implementing the chosen alterna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Following up and evaluating the resul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ehavioral Aspects of Decision Making 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administrative model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aced with a decision situat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managers actually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a) Use incomplete &amp; imperfect inform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b)Are constrained by bounded rationality(a concept suggesting that decision makers are limited by their values and unconscious reflexes, skills and habit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c) Tend to satisfice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. And end up with a decision that may or may not serve the interests of the organiza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model is glanced in the diagram  as foll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ounded Rectangle 2"/>
          <p:cNvSpPr/>
          <p:nvPr/>
        </p:nvSpPr>
        <p:spPr>
          <a:xfrm>
            <a:off x="0" y="1295280"/>
            <a:ext cx="2133720" cy="221004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2210040"/>
              <a:gd name="textAreaBottom" fmla="*/ 2106000 h 2210040"/>
            </a:gdLst>
            <a:ahLst/>
            <a:rect l="textAreaLeft" t="textAreaTop" r="textAreaRight" b="textAreaBottom"/>
            <a:pathLst>
              <a:path w="21600" h="22372">
                <a:moveTo>
                  <a:pt x="3600" y="0"/>
                </a:moveTo>
                <a:arcTo wR="3600" hR="3600" stAng="16200000" swAng="-5400000"/>
                <a:lnTo>
                  <a:pt x="0" y="18772"/>
                </a:lnTo>
                <a:arcTo wR="3600" hR="3600" stAng="10800000" swAng="-5400000"/>
                <a:lnTo>
                  <a:pt x="18000" y="223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ed with a decision sit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 actual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2590920" y="152280"/>
            <a:ext cx="3581280" cy="480060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800600"/>
              <a:gd name="textAreaBottom" fmla="*/ 4626000 h 4800600"/>
            </a:gdLst>
            <a:ahLst/>
            <a:rect l="textAreaLeft" t="textAreaTop" r="textAreaRight" b="textAreaBottom"/>
            <a:pathLst>
              <a:path w="21600" h="28953">
                <a:moveTo>
                  <a:pt x="3600" y="0"/>
                </a:moveTo>
                <a:arcTo wR="3600" hR="3600" stAng="16200000" swAng="-5400000"/>
                <a:lnTo>
                  <a:pt x="0" y="25353"/>
                </a:lnTo>
                <a:arcTo wR="3600" hR="3600" stAng="10800000" swAng="-5400000"/>
                <a:lnTo>
                  <a:pt x="18000" y="28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complete &amp; imperfect information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constrained by bounded rationality(a concept suggesting that decision makers are limited by their values and unconscious reflexes, skills and habits)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d to satisf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6629400" y="1295280"/>
            <a:ext cx="2514600" cy="22100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nd end up with a decision that may or may not serve the interests of the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ehavioral Aspects of Decision Making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(Contd…..) 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.Political forces in decision making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Intuition and escalation of commitmen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.Intuitio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.Escalation of commitmen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.Risk propensity and decision making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7.Ethics and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79096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Group Decision Making in Organizations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ms of group  decisions 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ng groups (A decision making group on which members openly discuss, argue about and agree on the best alternativ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Delphi groups (a form of group decision making in which a group is used to achieve a consensus of expert opin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Nominal group (A structured technique used to generate creative and innovative alternatives or idea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0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ing Group Decision Making Process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Place the understandable propos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Discuss with the membe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ry to convince all/majority memb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Remove the confus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 Accept reasonable suggestion/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 Motivate the members to organizational goal/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 Make clear about the benefits for 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 Clarify the organizational disciplinary polic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 Ensure participation of important pers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Don’t ignore anybody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taur Rahman</cp:lastModifiedBy>
  <dcterms:modified xsi:type="dcterms:W3CDTF">2024-11-02T05:37:27Z</dcterms:modified>
  <cp:revision>106</cp:revision>
  <dc:subject/>
  <dc:title>PowerPoint Presentation</dc:title>
</cp:coreProperties>
</file>