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0C5-CEC6-4CD5-973D-53508F5B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F37-7B82-4751-9030-0A7D38E0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016-7A96-4783-9646-D411DC53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46B-8CFB-4187-8538-262578F7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9BE6-F353-47CB-BF46-F967E94A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A30E-ECC2-4328-BD47-D53CEC2B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6862-0AE9-4F66-9402-D1898843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6D14-CF99-41B1-A191-559381AA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FCCB-90BD-420E-94A1-B9DB4803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3464-1BE0-4232-B911-3EFF35AC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7DB5-58ED-431B-A044-1E6984A9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1E60-962F-4B52-B651-87E6C551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1E8D-1308-4D38-AE57-F348FB23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1453-2C64-4370-AEA3-9948D5D7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BB0F-6182-4261-80F5-53D0CBB6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677A-A895-4F90-AFED-3D49940B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0206-E1FE-46D3-AFF8-BED48116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095-4787-4D1C-A3FA-F6469144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CA3-FC27-47AE-8F0D-DDEDD371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21E-65CF-4022-BA27-DBB46CBE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3D6-8E09-4879-A7B4-9B84F51D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204E-FBE8-4123-854B-8F2297A5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81A-BE20-4D0D-9614-A05C375E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86E-0C1B-40D1-B034-7E80461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930-B285-4061-ADC8-F1471C8BFC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020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760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D0B3-FCB0-48E6-8092-8E57E0BDD76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5120" y="1219320"/>
            <a:ext cx="5029200" cy="838080"/>
          </a:xfrm>
          <a:prstGeom prst="rect">
            <a:avLst/>
          </a:prstGeom>
          <a:noFill/>
          <a:ln w="38160">
            <a:solidFill>
              <a:srgbClr val="c160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Chapter - 7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2280" y="3276720"/>
            <a:ext cx="7467840" cy="1752480"/>
          </a:xfrm>
          <a:prstGeom prst="rect">
            <a:avLst/>
          </a:prstGeom>
          <a:noFill/>
          <a:ln w="38160">
            <a:solidFill>
              <a:srgbClr val="c1605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ic Elements of Planning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Steps of Planning in Isla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 variety of basic Islamic ideals, such a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1. human welfare and glory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2. justice and equality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3. central consideration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4. unanimity and kindness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5. economic development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6. security and safety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7. environmental protection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must be considered when planning an Islamic metropoli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Principles of Management in Isla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0663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1.  Complete faith on Allah(SWT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2.  Efficiency &amp; honest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3.  Patriotis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4.  Right man in the right pla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5.  Disciplin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6.  Division of labo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7.  Unity of command &amp; directio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8.  Centralization &amp; decentralizatio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9.  Preference on org interes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10. Benefit packag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. Hizrat &amp; promotio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rial"/>
              </a:rPr>
              <a:t>12. Justice for al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rial"/>
              </a:rPr>
              <a:t>13. United effor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rial"/>
              </a:rPr>
              <a:t>14. Dignity of labo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rial"/>
              </a:rPr>
              <a:t>15. Pardo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rial"/>
              </a:rPr>
              <a:t>16. Accountability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Difference between Islamic Management  &amp; Con Mgt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1426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1. Beliefs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2. Commitment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3. Patriotis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4. Hones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5. Placem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6. Complying with comman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7. Equ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8. Organization intere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9. Use of pow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0.Accountability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90720"/>
          </a:xfrm>
          <a:prstGeom prst="rect">
            <a:avLst/>
          </a:prstGeom>
          <a:noFill/>
          <a:ln w="38160">
            <a:solidFill>
              <a:srgbClr val="c160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Planning Process   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181480"/>
          </a:xfrm>
          <a:prstGeom prst="rect">
            <a:avLst/>
          </a:prstGeom>
          <a:noFill/>
          <a:ln w="38160">
            <a:solidFill>
              <a:srgbClr val="f0b854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1.Strategic goals          Strategic Pla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2.Tactical goals            Tactical Plan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3.Operational Goals     Operational Pla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25" name="Straight Arrow Connector 4"/>
          <p:cNvCxnSpPr/>
          <p:nvPr/>
        </p:nvCxnSpPr>
        <p:spPr>
          <a:xfrm>
            <a:off x="4038480" y="1752120"/>
            <a:ext cx="534240" cy="2520"/>
          </a:xfrm>
          <a:prstGeom prst="straightConnector1">
            <a:avLst/>
          </a:prstGeom>
          <a:ln w="9360">
            <a:solidFill>
              <a:srgbClr val="2f1311"/>
            </a:solidFill>
            <a:miter/>
            <a:tailEnd len="med" type="arrow" w="med"/>
          </a:ln>
        </p:spPr>
      </p:cxnSp>
      <p:cxnSp>
        <p:nvCxnSpPr>
          <p:cNvPr id="226" name="Straight Arrow Connector 6"/>
          <p:cNvCxnSpPr/>
          <p:nvPr/>
        </p:nvCxnSpPr>
        <p:spPr>
          <a:xfrm>
            <a:off x="4267080" y="2286000"/>
            <a:ext cx="457920" cy="2160"/>
          </a:xfrm>
          <a:prstGeom prst="straightConnector1">
            <a:avLst/>
          </a:prstGeom>
          <a:ln w="9360">
            <a:solidFill>
              <a:srgbClr val="2f1311"/>
            </a:solidFill>
            <a:miter/>
            <a:tailEnd len="med" type="arrow" w="med"/>
          </a:ln>
        </p:spPr>
      </p:cxnSp>
      <p:cxnSp>
        <p:nvCxnSpPr>
          <p:cNvPr id="227" name="Straight Arrow Connector 9"/>
          <p:cNvCxnSpPr/>
          <p:nvPr/>
        </p:nvCxnSpPr>
        <p:spPr>
          <a:xfrm>
            <a:off x="4266720" y="2743200"/>
            <a:ext cx="381960" cy="2160"/>
          </a:xfrm>
          <a:prstGeom prst="straightConnector1">
            <a:avLst/>
          </a:prstGeom>
          <a:ln w="9360">
            <a:solidFill>
              <a:srgbClr val="2f1311"/>
            </a:solidFill>
            <a:miter/>
            <a:tailEnd len="med" type="arrow" w="med"/>
          </a:ln>
        </p:spPr>
      </p:cxn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76320" y="226800"/>
            <a:ext cx="7772400" cy="66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Organizational goals </a:t>
            </a:r>
            <a:br>
              <a:rPr sz="4000"/>
            </a:br>
            <a:br>
              <a:rPr sz="8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Purposes of goals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1.  Utilization of time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2.  Discipline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3.  Goal orientation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4.  Utilization of human resources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4000" spc="-1" strike="noStrike">
                <a:solidFill>
                  <a:srgbClr val="00b050"/>
                </a:solidFill>
                <a:latin typeface="Arial"/>
              </a:rPr>
              <a:t>Criteria  of goals   </a:t>
            </a:r>
            <a:br>
              <a:rPr sz="40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Level 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2. Area 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3. Time frame </a:t>
            </a:r>
            <a:br>
              <a:rPr sz="24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inds of Goal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848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ategic go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goal set by and for top management of the organiz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Tactical goal: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goal set by and for middle managers of the organiz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Operational goal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 goal set by and for lower-level managers of the organiz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8077320" cy="6553080"/>
          </a:xfrm>
          <a:prstGeom prst="rect">
            <a:avLst/>
          </a:prstGeom>
          <a:noFill/>
          <a:ln w="38160">
            <a:solidFill>
              <a:srgbClr val="f0b854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ime Frame for Planning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ong term pla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termediate pla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hort term pla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sponsibility for Planning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lanning staff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lanning task forc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oard of director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hief executive officer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ecutive committee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ine management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7772400" cy="6400800"/>
          </a:xfrm>
          <a:prstGeom prst="rect">
            <a:avLst/>
          </a:prstGeom>
          <a:noFill/>
          <a:ln w="38160">
            <a:solidFill>
              <a:srgbClr val="f0b854"/>
            </a:solidFill>
            <a:miter/>
          </a:ln>
        </p:spPr>
        <p:txBody>
          <a:bodyPr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mitations of Plan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0de"/>
                </a:solidFill>
                <a:latin typeface="Arial"/>
              </a:rPr>
              <a:t>1. Lack of good Planner/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0de"/>
                </a:solidFill>
                <a:latin typeface="Arial"/>
              </a:rPr>
              <a:t>2. Lack of patriotis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0de"/>
                </a:solidFill>
                <a:latin typeface="Arial"/>
              </a:rPr>
              <a:t>3. Insufficient data/inform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0de"/>
                </a:solidFill>
                <a:latin typeface="Arial"/>
              </a:rPr>
              <a:t>4. Lack of funds for execu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0de"/>
                </a:solidFill>
                <a:latin typeface="Arial"/>
              </a:rPr>
              <a:t>5. Incorrect forecast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0de"/>
                </a:solidFill>
                <a:latin typeface="Arial"/>
              </a:rPr>
              <a:t>6. Lack of changeabilit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0de"/>
                </a:solidFill>
                <a:latin typeface="Arial"/>
              </a:rPr>
              <a:t>7. Dependence of other facto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0de"/>
                </a:solidFill>
                <a:latin typeface="Arial"/>
              </a:rPr>
              <a:t>8. Corrup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0de"/>
                </a:solidFill>
                <a:latin typeface="Arial"/>
              </a:rPr>
              <a:t>9. Misappropriation of fund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e0de"/>
                </a:solidFill>
                <a:latin typeface="Arial"/>
              </a:rPr>
              <a:t>10. Inability to take independent decis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38160">
            <a:solidFill>
              <a:srgbClr val="f0b85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anding plan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Policy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Standard operating procedure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Rules and regulation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66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Managing Goal Setting 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df6e5"/>
                </a:solidFill>
                <a:latin typeface="Arial"/>
              </a:rPr>
              <a:t>Goal setting is an important part of planning.There may be many obstacles while setting goals.</a:t>
            </a:r>
            <a:br>
              <a:rPr sz="3600"/>
            </a:br>
            <a:r>
              <a:rPr b="0" lang="en-US" sz="3600" spc="-1" strike="noStrike">
                <a:solidFill>
                  <a:srgbClr val="fdf6e5"/>
                </a:solidFill>
                <a:latin typeface="Arial"/>
              </a:rPr>
              <a:t>Effective managers /planners have to manage these obstacles.If is done effectively,the plan may be formulated &amp; executed successfully.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finition of  Planning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lanning may be defined as a process of deciding in advance what is to be done in future that is planning is a projected course of action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m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 Questions are to be answer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 What is to be do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By whom it is to be do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What methods will be us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. When it is to be don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66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Barriers to Goal Setting and Planning </a:t>
            </a:r>
            <a:br>
              <a:rPr sz="3200"/>
            </a:br>
            <a:br>
              <a:rPr sz="32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appropriate goal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Improper reward system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 Dynamic and complex environment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4. Reluctance to establish goal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. Resistance to chang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. Constraints (Overall) 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458200" cy="6400800"/>
          </a:xfrm>
          <a:prstGeom prst="rect">
            <a:avLst/>
          </a:prstGeom>
          <a:noFill/>
          <a:ln w="38160">
            <a:solidFill>
              <a:srgbClr val="f0b85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vercoming the Barriers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munication and particip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sistency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visi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pdating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ffective reward system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ing Goals to Implement Pla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formal goal setting proces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f1311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effectiveness of formal goal setting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lanning in Islam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7d47d"/>
                </a:solidFill>
                <a:latin typeface="Arial"/>
              </a:rPr>
              <a:t>Setting goals, making plans and designing strategies</a:t>
            </a:r>
            <a:r>
              <a:rPr b="0" lang="en-GB" sz="4000" spc="-1" strike="noStrike">
                <a:solidFill>
                  <a:srgbClr val="f7d47d"/>
                </a:solidFill>
                <a:latin typeface="Arial"/>
              </a:rPr>
              <a:t> to ensure objectives are all Islamic Sunnah. Planning should be at the center of a Muslim's life- ..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Features of Planning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efinite goal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arting poin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orecast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idenes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cceptabil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rror fre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aintaining adjustabil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ntinu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ragmatis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Understandabilit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imelines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ost effectivenes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26960" indent="-426960"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Alternative arrangemen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Planning Proces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environmental contex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organization's mission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urposes   Premises   Value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Direc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rategic goal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trategic plan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ctical goal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actical plans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perational goals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perational pla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0" y="3733920"/>
            <a:ext cx="3808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 flipH="1" flipV="1">
            <a:off x="7772400" y="3809880"/>
            <a:ext cx="76320" cy="19051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 flipH="1">
            <a:off x="7086240" y="3352680"/>
            <a:ext cx="6094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0" y="2743200"/>
            <a:ext cx="0" cy="228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 flipH="1">
            <a:off x="3200400" y="4343400"/>
            <a:ext cx="10303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0" y="441972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4114800" y="434340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3200400" y="3352680"/>
            <a:ext cx="1143000" cy="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Line 22"/>
          <p:cNvSpPr/>
          <p:nvPr/>
        </p:nvSpPr>
        <p:spPr>
          <a:xfrm>
            <a:off x="3200400" y="3809880"/>
            <a:ext cx="1066680" cy="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>
            <a:off x="7162920" y="3886200"/>
            <a:ext cx="380880" cy="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Line 24"/>
          <p:cNvSpPr/>
          <p:nvPr/>
        </p:nvSpPr>
        <p:spPr>
          <a:xfrm>
            <a:off x="7467480" y="4343400"/>
            <a:ext cx="381240" cy="0"/>
          </a:xfrm>
          <a:prstGeom prst="line">
            <a:avLst/>
          </a:prstGeom>
          <a:ln w="9360">
            <a:solidFill>
              <a:srgbClr val="2f131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6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ce of Planning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 Achievement of objective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 Achieving econom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 Coordinating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. Easy contr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. Base of Mgt. function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. Increasing skillnes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. Guideline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. Future philosoph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 Fundamental work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.Achieving reinforcemen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1.Proper use of resource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2.Expansion of business</a:t>
            </a:r>
            <a:br>
              <a:rPr sz="2800"/>
            </a:br>
            <a:br>
              <a:rPr sz="2800"/>
            </a:br>
            <a:br>
              <a:rPr sz="4400"/>
            </a:br>
            <a:br>
              <a:rPr sz="44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80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Methods of Plann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xperience Metho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 Immitaive Metho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 Scientific Metho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7696080" cy="647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lanning Premises 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the combination of the process of formulating the plan,determining the are of plan and explaining the reasons of planning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7772400" cy="647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eps of Planning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. Determining the background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. Determining the objectives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. Information collection &amp; analysis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. Preparation of execution ground 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. Determining the alternative/s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6. Evaluation of alternative/s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7. Selection of best alternative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8. Helping plan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9. Determining time frame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0.Budgeting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1.Pilot application</a:t>
            </a:r>
            <a:br>
              <a:rPr sz="2800"/>
            </a:b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2.Evaluation of effectiveness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taur Rahman</cp:lastModifiedBy>
  <dcterms:modified xsi:type="dcterms:W3CDTF">2024-10-19T05:20:33Z</dcterms:modified>
  <cp:revision>191</cp:revision>
  <dc:subject/>
  <dc:title>PowerPoint Presentation</dc:title>
</cp:coreProperties>
</file>