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6BB-E12A-456D-BA8D-0C015452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AB6-ABB7-489D-8A05-1943525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F966-7BA5-400A-BE6C-F2DA2506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2D2-6434-423E-AB8C-1BE99E26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FF1-C845-451C-AFA9-F88719E4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CBB-310F-4712-A020-F2D0A89F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3D7-15B7-407F-BB8F-716F403C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165-6277-47BE-8900-3A1AB5FE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AFF-64DA-4867-BC12-F2448B51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753-B1CD-4509-ADE5-9E675EB1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2EC-F835-4FEF-93B2-EFC6F28D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7D2-A51F-414C-A40B-0D8C5DCE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3148-E9EF-4FA6-8396-D227524E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884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              </a:t>
            </a:r>
            <a:br>
              <a:rPr sz="4400"/>
            </a:b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                           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hapter 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Leadership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finition of Leadership</a:t>
            </a:r>
            <a:br>
              <a:rPr sz="3200"/>
            </a:br>
            <a:br>
              <a:rPr sz="32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 H. Koontz and O’Donne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Leadership may be defined as the ability to exert inter personal influence by means of communication towards the achievement of goal”</a:t>
            </a:r>
            <a:br>
              <a:rPr sz="28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 Davis and Newstor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Leadership is the process of influencing and supporting others to work enthusiastically toward achieving objectives”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0" y="46483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4"/>
          <p:cNvSpPr/>
          <p:nvPr/>
        </p:nvSpPr>
        <p:spPr>
          <a:xfrm flipH="1">
            <a:off x="-1440" y="1449360"/>
            <a:ext cx="2880" cy="2286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 flipV="1">
            <a:off x="0" y="1371600"/>
            <a:ext cx="8381880" cy="76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kills of a Leader</a:t>
            </a:r>
            <a:br>
              <a:rPr sz="40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  Conceptual skill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  Technical skill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  Human relations skill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   Time management skill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.   Communicative skill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.   Diagnostic skill </a:t>
            </a:r>
            <a:br>
              <a:rPr sz="25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   Aware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   Hones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 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 Relationship Buil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 Innov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 Positiv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 Passion &amp; commit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 Collabor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Styles of a Lead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ower sty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tyle is the ability of a leader who has totally power able to the others to become a successful leader. Power style includ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) Autocratic b) Democratic c) Free re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Motivation sty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style is the ability of a leader who has response to his subordinate or others. In this stage has to follow the following step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Positive motivational style  b) Negative motivational sty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Orientation styl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tion style is the approach of a leader how to motivate to his subordinate and others. Orientation style has to follow the two step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Employee centered  b) Production centere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lassification of Leadership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 Leadershi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cratic Leadershi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issez-Faire Leadershi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al Leadershi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national Leadershi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cratic Leadershi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ismatic Leadershi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tive Leadershi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ve Leadershi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ive Leadershi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hievement Oriente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unctions of Transformational Leadership 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Creates an inspiring vision of the futur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Motivates and inspires peopl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engage with that vi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Manages delivery of the vis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Coaches and builds a team, so that it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more effective at achieving the 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Sources of Power of a Leader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1. Legitimate power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2. Reward power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3. Coercive power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4. Referent power 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5. Expert power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6.Communication power</a:t>
            </a:r>
            <a:br>
              <a:rPr sz="3600"/>
            </a:b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7.Spiritual powe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0"/>
          <a:ext cx="9144000" cy="8056440"/>
        </p:xfrm>
        <a:graphic>
          <a:graphicData uri="http://schemas.openxmlformats.org/drawingml/2006/table">
            <a:tbl>
              <a:tblPr/>
              <a:tblGrid>
                <a:gridCol w="804960"/>
                <a:gridCol w="1938240"/>
                <a:gridCol w="2590920"/>
                <a:gridCol w="3809880"/>
              </a:tblGrid>
              <a:tr h="145944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Difference between Management and Leadershi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mensions                           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hi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61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 of managing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 of leading 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61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s on an organ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s around a group of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 manager has to assume the role of a leader to drive his subordin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eader not only manages but also influences his follo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a combination of different managerial tools to get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uences followers to voluntarily chase the 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61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a whole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a part of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60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s plans &amp; poli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es plans and poli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228600"/>
          <a:ext cx="9144000" cy="3602160"/>
        </p:xfrm>
        <a:graphic>
          <a:graphicData uri="http://schemas.openxmlformats.org/drawingml/2006/table">
            <a:tbl>
              <a:tblPr/>
              <a:tblGrid>
                <a:gridCol w="798480"/>
                <a:gridCol w="1392120"/>
                <a:gridCol w="3175200"/>
                <a:gridCol w="377820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ys at higher lev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ys at the operative lev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s issues di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 receives di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4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formal 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d informal 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82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s results by activities of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ieve goals by creating a vision and inspiring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Under What Circumstances a Leader is Made Ineffective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eader-member relationshi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eader-position po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mployees willing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ow employee motiv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Autocratic l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Bias / Discrimin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Less flexibility / Rigid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Negative attitu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Low self-confide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Dishones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Personal probl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 Low knowledge leve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w creativ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Lack of  punctua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Bad behavior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Under What Circumstances Situation Can Make a Person Leader</a:t>
            </a:r>
            <a:br>
              <a:rPr sz="2400"/>
            </a:br>
            <a:br>
              <a:rPr sz="24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. Crisis management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. Innovatio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. Minimizing rumor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4. Increased productivity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5. Consultative approach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6. Participatio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7. Influence and motivatio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. Structure or task related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. Consideratio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. Technical, human and conceptual skill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Political Behavior in Organization 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mmon political behavi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mpression managem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anaging political behav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Principles of Leadership</a:t>
            </a:r>
            <a:br>
              <a:rPr sz="3600"/>
            </a:b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 Know yourself and seek self-improvement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 Be technically proficient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 Seek responsibility and take responsibility for your action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4. Make sound and timely decision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. Set the example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6. Know your people and look out for their well-being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. Keep your workers informed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. Develop a sense of responsibility in your worker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. Ensure that tasks are understood, supervised, and accomplished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. Train as a team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. Use the full capabilities of your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Characteristics of an Effective Leader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Self-confide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Strong communication and management ski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Creative and innovative thin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Perseverance in the face of fail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Willingness to take ris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Openness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5840"/>
            <a:ext cx="9144000" cy="68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Leadership Approaches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. Traits Approach</a:t>
            </a:r>
            <a:br>
              <a:rPr sz="25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Assertiven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Above-average he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Good vocabul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Attractiven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elf-confide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milar attributes</a:t>
            </a:r>
            <a:br>
              <a:rPr sz="3200"/>
            </a:br>
            <a:br>
              <a:rPr sz="32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. Generic Approaches to Leadership</a:t>
            </a:r>
            <a:br>
              <a:rPr sz="4000"/>
            </a:br>
            <a:br>
              <a:rPr sz="2800"/>
            </a:b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eadership Behavior 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Michigan studies: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Job center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2. Employee centered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.Ohio state studi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1. Initiating-structure behavi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2. Consideration behavi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.Managerial Grid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1. Concern for produ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2. Concern fo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3. Situational / Contingency  Approaches </a:t>
            </a:r>
            <a:br>
              <a:rPr sz="4800"/>
            </a:br>
            <a:r>
              <a:rPr b="1" lang="en-US" sz="6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ful performance in current r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ocks the door to future leadership opportuniti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 few exceptions, leader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are also followers. 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LPC Theory </a:t>
            </a: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avorableness of the situation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2. Favorableness and leader sty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3. Flexibility of leader style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ositive and negative lead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5. Autocratic, consultative and participativ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4. Vroom’s Decision Making Tree Approach </a:t>
            </a:r>
            <a:br>
              <a:rPr sz="3600"/>
            </a:b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Basic premis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2. Decision making sty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3. Evaluation and im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5. Related Approach to Leadership </a:t>
            </a:r>
            <a:br>
              <a:rPr sz="3600"/>
            </a:b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s for leadershi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2.Charismatic leadershi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3.Transformational leadership </a:t>
            </a:r>
            <a:br>
              <a:rPr sz="3200"/>
            </a:br>
            <a:br>
              <a:rPr sz="1000"/>
            </a:br>
            <a:br>
              <a:rPr sz="1000"/>
            </a:b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Emerging Approaches to Leadership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trategic leadershi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2. Cross cultural leadershi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3. Ethical leadershi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4. Substitutes and Enhanc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5. Self and Super leadershi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6. Coach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9023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Functions of Leadership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ntegr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mmunic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Production Emphasi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Represent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Fratern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Organ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Evaluation of performanc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Initiation/Initiativ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D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1:38:52Z</dcterms:created>
  <dc:creator>EMBA</dc:creator>
  <dc:description/>
  <dc:language>en-US</dc:language>
  <cp:lastModifiedBy>Ataur Rahman</cp:lastModifiedBy>
  <dcterms:modified xsi:type="dcterms:W3CDTF">2024-10-26T11:22:28Z</dcterms:modified>
  <cp:revision>133</cp:revision>
  <dc:subject/>
  <dc:title>Chapter 7 Leadership</dc:title>
</cp:coreProperties>
</file>