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4606-D1BC-4B7A-96AB-3F0594954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3296-A5DB-4827-9862-BB38E4ECC407}" type="slidenum">
              <a:rPr b="0" lang="en-US" sz="12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117-09EA-4323-BC8F-D810BF02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D027-8A9D-4184-848D-D4AAB9CA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23A-720F-4938-AD80-1DB65431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3B8-9190-4A7E-8562-B7550D63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4968-F6D1-4DDB-9362-D25DE6FD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1B04-5003-4D2D-A193-7355B245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75E4-4C0A-480C-A7DC-7D9D3C76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C1CA-0327-42D5-BF53-8D8F5908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B6EB-868A-4FD2-9FBD-42151101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BB19-A5E6-4251-9ADF-3A3F0549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64AE-C4EC-4CB7-BFBE-87C64167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6CAB-88A5-44EA-B6A5-AF68DD8B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4E16-24D5-4C10-BF30-91F6C967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E02E-758B-4B47-93E7-5EFCE017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1D81-5EDF-4C43-BDAF-6E6E3FB7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24D0-B061-444F-A93A-12C6066E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1C88-8663-46C9-820E-052BDEC7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CE84-FC1C-4FEE-9F9B-5138C11A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850-10D8-4067-900F-7701FA26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BE13-868E-47BE-82D7-E2DEF425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797-8151-49FD-9F00-128D7515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391-EE98-4EA3-9736-94CB4E12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6846-D3CF-4714-AD04-192641B6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7E3-6DF7-42BC-ACAC-AAE1BB88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56C6-3081-4DAD-A204-989978FBDC3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65A8-CB54-4914-86AF-A4633C5D20A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6B86-2330-411E-9A0A-2EBB39E12DE9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8" name="WordArt 2"/>
          <p:cNvSpPr txBox="1"/>
          <p:nvPr/>
        </p:nvSpPr>
        <p:spPr>
          <a:xfrm>
            <a:off x="609480" y="1219320"/>
            <a:ext cx="79250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Welcome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	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 Black"/>
              </a:rPr>
              <a:t>T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Arial Black"/>
              </a:rPr>
              <a:t>The New Sessi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Arial Black"/>
              </a:rPr>
              <a:t>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latin typeface="Arial Black"/>
              </a:rPr>
              <a:t>Human Resource Manag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6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5AA1-A4E0-4AA5-BA7F-A02FF761C86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762120" y="258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762120" y="74484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Principles of Human Resource Managemen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380880" y="245628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Principle of scientific selection: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Principle of employee development: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Principle of labor management   cooperation: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Principle of free flow of communication: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Principles of fair remuneration: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Principles of incentive: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2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6D5E-83D7-4878-BE2E-78B54FA9645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762120" y="258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85800" y="63900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Principles of Human Resource Management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80880" y="2692080"/>
            <a:ext cx="8458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8f8f8"/>
                </a:solidFill>
                <a:latin typeface="Times New Roman"/>
              </a:rPr>
              <a:t>Principles of dignity of labor: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8f8f8"/>
                </a:solidFill>
                <a:latin typeface="Times New Roman"/>
              </a:rPr>
              <a:t>Principle of participation: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8f8f8"/>
                </a:solidFill>
                <a:latin typeface="Times New Roman"/>
              </a:rPr>
              <a:t>Principle of team spirit: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8f8f8"/>
                </a:solidFill>
                <a:latin typeface="Times New Roman"/>
              </a:rPr>
              <a:t>Principle of contribution: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8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D74C-9E4B-40C3-B4AC-D350E2811C2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33520" y="9903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Basic Functions of Human Resource Management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380880" y="2608920"/>
            <a:ext cx="8382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2574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3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8f8f8"/>
                </a:solidFill>
                <a:latin typeface="Times New Roman"/>
              </a:rPr>
              <a:t>Acquisition  of HR  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3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8f8f8"/>
                </a:solidFill>
                <a:latin typeface="Times New Roman"/>
              </a:rPr>
              <a:t>Development  of HR 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3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8f8f8"/>
                </a:solidFill>
                <a:latin typeface="Times New Roman"/>
              </a:rPr>
              <a:t>Motivation  of HR 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3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8f8f8"/>
                </a:solidFill>
                <a:latin typeface="Times New Roman"/>
              </a:rPr>
              <a:t>Maintenance  of HR 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3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8f8f8"/>
                </a:solidFill>
                <a:latin typeface="Times New Roman"/>
              </a:rPr>
              <a:t>Utilization of  HR 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A20A-FA08-4CAA-9141-21C2CCFB89A4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80880" y="983880"/>
            <a:ext cx="83822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General Functions of Human Resource Management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Formulation of Human Resources Policie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Procurement and selection of efficient employee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Guidance and placement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Training and developmen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Promotion and transfer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EEE9-959C-4028-BDE2-276F8BD7CE8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7238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Job analysi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566640" indent="-5666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Maintenance of working environment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566640" indent="-5666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Protection of employee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566640" indent="-5666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Employee Service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566640" indent="-5666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Remuneration: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066680" y="68580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General Functions of Human Resource Management (Cont.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9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44D4-175B-4B87-8545-BDB02B5E7FD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80880" y="2390760"/>
            <a:ext cx="8382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11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Job and Merit Evaluation:</a:t>
            </a:r>
            <a:r>
              <a:rPr b="0" lang="en-US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11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Labor Management Relations:</a:t>
            </a:r>
            <a:r>
              <a:rPr b="0" lang="en-US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11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Workers’ Participation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11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Agreements with Trade Unions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11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Leadership and Co-operation:</a:t>
            </a:r>
            <a:r>
              <a:rPr b="0" lang="en-US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066680" y="68580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General Functions of Human Resource Management (Cont.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4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DFCB-3141-4562-8638-E1591F68861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80880" y="2379960"/>
            <a:ext cx="8382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16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Providing benefits and rewards: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16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Maintaining discipline: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16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Career planning and  development:</a:t>
            </a:r>
            <a:r>
              <a:rPr b="0" lang="en-US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16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Handling grievances:</a:t>
            </a:r>
            <a:r>
              <a:rPr b="0" lang="en-US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16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Reviewing employee needs:</a:t>
            </a:r>
            <a:r>
              <a:rPr b="0" lang="en-US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066680" y="68580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General Functions of Human Resource Management (Cont.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9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4AEF-F32F-4FC2-87BF-1BAEF2B7D62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762120" y="258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09480" y="942120"/>
            <a:ext cx="7925040" cy="46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Importance of Human Resource Management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Policy Formulation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Policy execution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Review of employee needs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Utilization of human resources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Social welfare development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Overall development of organization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Effective trade unionism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4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9597-1390-4B6F-B7E9-39F2688FAA7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762120" y="258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990720" y="792720"/>
            <a:ext cx="678168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Phases of Human Resource Management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Pre-hire phase: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Hiring Phase: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Post-hiring phase: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2885-74E2-4649-80A1-DB0BA1B54693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762120" y="258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33520" y="380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Difference between Personnel and Human Resource Management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85800" y="1676520"/>
          <a:ext cx="7696080" cy="4236840"/>
        </p:xfrm>
        <a:graphic>
          <a:graphicData uri="http://schemas.openxmlformats.org/drawingml/2006/table">
            <a:tbl>
              <a:tblPr/>
              <a:tblGrid>
                <a:gridCol w="609480"/>
                <a:gridCol w="1219320"/>
                <a:gridCol w="2725560"/>
                <a:gridCol w="31417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SL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Dimension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Personnel Management 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Human Resource Management 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2531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Definition 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Personnel management is the process of hiring and developing employees so that they become more valuable to the organization. 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Human resource management is the process of hiring, developing and maintaining of effective workforces in an organization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Key concern 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Labor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All employees 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7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D8AA-5B12-445D-A82E-42DEBB62E97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533160" y="91404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Reference Book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Human Resource Management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85800" y="2895480"/>
            <a:ext cx="78487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Dr. M. Ataur Rahman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88BB-4AA1-4E36-9CBC-B9AADA82F8E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762120" y="258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09480" y="380880"/>
          <a:ext cx="7848720" cy="5639040"/>
        </p:xfrm>
        <a:graphic>
          <a:graphicData uri="http://schemas.openxmlformats.org/drawingml/2006/table">
            <a:tbl>
              <a:tblPr/>
              <a:tblGrid>
                <a:gridCol w="490680"/>
                <a:gridCol w="1374840"/>
                <a:gridCol w="2779560"/>
                <a:gridCol w="3203640"/>
              </a:tblGrid>
              <a:tr h="277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Planning and strategy formulation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It is involved in operational planning only.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Participates in formulating overall organization at strategic plan and aligning human resource functions with company strategy.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Authority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Medium status and authority. 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High status and authority for top personnel officer. 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Scope 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It is concerned primarily with hourly, operational a clerical employees.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It concerned with all manager and employees.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93E9-9770-4DBB-8A56-105A025C297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762120" y="258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09480" y="990720"/>
          <a:ext cx="7925040" cy="4297320"/>
        </p:xfrm>
        <a:graphic>
          <a:graphicData uri="http://schemas.openxmlformats.org/drawingml/2006/table">
            <a:tbl>
              <a:tblPr/>
              <a:tblGrid>
                <a:gridCol w="495360"/>
                <a:gridCol w="1387440"/>
                <a:gridCol w="2806920"/>
                <a:gridCol w="323532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Decision making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Makes operational decisions only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It is involved in making strategic decisions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767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Behavior pattern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Employees behavior depends on organization’s   values/mission 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Employees behavior depends on organizational norms/customs and practices.  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767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Integration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It involves moderate to small integration with other organizational function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It is fully integrated with other organizational functions: marketing, finance, legal and production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3126-AC3D-48E2-94E6-81772FD0E91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762120" y="258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85800" y="990720"/>
          <a:ext cx="7704000" cy="4206600"/>
        </p:xfrm>
        <a:graphic>
          <a:graphicData uri="http://schemas.openxmlformats.org/drawingml/2006/table">
            <a:tbl>
              <a:tblPr/>
              <a:tblGrid>
                <a:gridCol w="609480"/>
                <a:gridCol w="1379520"/>
                <a:gridCol w="2573640"/>
                <a:gridCol w="3141360"/>
              </a:tblGrid>
              <a:tr h="2652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Coordination 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Does not coordinate all human resource functions.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Coordinates all human resource activities (e.g. training, recruitment, staffing, equal employment opportunity)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Basis of management action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Management takes actions on The basis of procedures.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Management take actions on the basis of business need. 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D6F8-7B45-4F4D-934F-6BB41FC637C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762120" y="258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85800" y="838080"/>
          <a:ext cx="7848720" cy="4664160"/>
        </p:xfrm>
        <a:graphic>
          <a:graphicData uri="http://schemas.openxmlformats.org/drawingml/2006/table">
            <a:tbl>
              <a:tblPr/>
              <a:tblGrid>
                <a:gridCol w="490680"/>
                <a:gridCol w="1374480"/>
                <a:gridCol w="2779920"/>
                <a:gridCol w="320364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Rules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Importance of devising clear rules.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HRM observes progress of coping with rules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Speed of decision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Personnel management takes decision slowly 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HRM takes decision quickly. 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Respect for employees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Labor is treated as a tool which is expendable and replaceable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People are treated as assets to be used for the benefit of an organization, its employees and the society as a whole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8DDE-B5A8-476E-9A13-1F44345E571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762120" y="258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09480" y="961920"/>
          <a:ext cx="7772400" cy="3108600"/>
        </p:xfrm>
        <a:graphic>
          <a:graphicData uri="http://schemas.openxmlformats.org/drawingml/2006/table">
            <a:tbl>
              <a:tblPr/>
              <a:tblGrid>
                <a:gridCol w="609840"/>
                <a:gridCol w="1523880"/>
                <a:gridCol w="2465280"/>
                <a:gridCol w="3173400"/>
              </a:tblGrid>
              <a:tr h="1920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Focus of attention for interventions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Personnel procedures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Wide-ranging cultural, structural and personnel strategies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Shared interests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Interests of the organization are uppermost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Mutuality of interests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DB9B-0EFB-4F06-A088-54D257FE432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762120" y="258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914400" y="578160"/>
            <a:ext cx="6858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Philosophy of Human Resource Management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Human factor: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echnical factor: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9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2234-1ACA-4E54-A244-09363587618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62120" y="258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533520" y="1234800"/>
            <a:ext cx="800100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Objectives of Human Resource Management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To develop efficiency and skills of employees: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To ensure effective performance of employees: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To change behavior of employees: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To train up subordinates: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To increase job satisfaction: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4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61E5-9D78-4C5F-90A6-41651113227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762120" y="258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80880" y="1852560"/>
            <a:ext cx="83822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To attract good people: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To make effectiveness: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To ensure discipline: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Proper use of human resources: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8f8f8"/>
                </a:solidFill>
                <a:latin typeface="Times New Roman"/>
              </a:rPr>
              <a:t>To develop working conditions 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9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1092-1066-42D8-8090-EF8CFDA99CE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762120" y="258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85800" y="363960"/>
            <a:ext cx="739152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Nature of Human Resource Management in Bangladesh (Public Sector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Management is less efficient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Employees are more or less committed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They are more or less skilled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Government pressure is high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Decision (most of the company) comes from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the governmen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High degree of irregularities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4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1D5E-1C03-455E-98BC-0AC0FF1E43F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62120" y="258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304920" y="1697400"/>
            <a:ext cx="845820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Lack of sense of accountability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Lack of human resource policy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Heavy pressure of trade unions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Undue political pressur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Lack of quick decisio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Improper utilization of all resource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BD19-B270-4813-B6F8-224DD24B765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Chapter-13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Human Resource Management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1409-EC81-4CC3-AFA4-51B66C0BD16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533520" y="304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HRM Model</a:t>
            </a:r>
            <a:r>
              <a:rPr b="0" lang="en-US" sz="1800" spc="-1" strike="noStrike">
                <a:solidFill>
                  <a:srgbClr val="f8f8f8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252" name="Object 7"/>
          <p:cNvGraphicFramePr/>
          <p:nvPr/>
        </p:nvGraphicFramePr>
        <p:xfrm>
          <a:off x="762120" y="838080"/>
          <a:ext cx="72388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38080"/>
                    <a:ext cx="72388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5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7284-369C-4193-BC25-91DC4F40F16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762120" y="258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304920" y="34236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Means to Success of Human Resource Management in Bangladesh 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1905120" y="2481480"/>
            <a:ext cx="5181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Proper policy: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Acceptability of policies: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Capability: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Top management support: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Trade union support: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Impartiality: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1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74B7-33F6-46A2-958D-58D842584B5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762120" y="25876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685800" y="76104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Factors Determining the Efficiency of HRM in Bangladesh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914400" y="1995840"/>
            <a:ext cx="685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Total labor productivity: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Presence of efficient employees: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Nature of labor management relations: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Frequency of labor turnover: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Rate of absenteeism: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Volume of training: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Utilization of human resources: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Effort for employee services: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6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7DC2-12C1-438D-B480-8E2FBC7C27D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8" name="_s50183"/>
          <p:cNvSpPr/>
          <p:nvPr/>
        </p:nvSpPr>
        <p:spPr>
          <a:xfrm>
            <a:off x="838080" y="851040"/>
            <a:ext cx="7239240" cy="825480"/>
          </a:xfrm>
          <a:prstGeom prst="bevel">
            <a:avLst>
              <a:gd name="adj" fmla="val 12500"/>
            </a:avLst>
          </a:prstGeom>
          <a:noFill/>
          <a:ln w="3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Behavior of the Boss to the Employees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04920" y="1902600"/>
            <a:ext cx="85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8002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en I take a long time, I am slow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en my boss takes a long time, he is 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thorough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en I do not do it, I am lazy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4. When my boss does not do it, he is too 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busy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1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2EEC-3044-4E98-8CA9-C85414544B6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609480" y="940680"/>
            <a:ext cx="7772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5.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When I do some something without being told, I am trying to be smar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6. When my boss does the same, he is initiativ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7. When I try please to my boss, I am polishing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8. When my boss pleases to his boss, he is cooperating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9. When I do good, my boss never remember 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10. When I wrong, he never forgets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4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E4B5-9C63-44A0-9A80-0B194D4D2AE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533520" y="1696320"/>
            <a:ext cx="800100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Problems of Human Resource Management in Bangladesh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Lack of professional management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Lack of skilled human resource manager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Lack of proper establishment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Lack of human resource planning 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Change of job of human resource manager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7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44FF-0FBC-4296-B906-EF43961EBF1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380880" y="703440"/>
            <a:ext cx="83822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Lack of career planning and program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Lack of proper evaluation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Lack of motivation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Lack of suitable relation between labor and management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Negative politics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0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9951-0585-4212-BD02-E6B3CF158EA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066680" y="729360"/>
            <a:ext cx="67820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Means to Overcome the Problems of HRM in Bangladesh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Effective human resource planning 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Proper establishment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Long time job as human resource manager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Possibility of career planning and progra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ff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Positive relations between labor and management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4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964B-C3E3-4C5F-9481-2150F44AF2D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609480" y="934200"/>
            <a:ext cx="784872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00ff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Proper job evaluation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00ff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High professional management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00ff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Ability of skilled human resource manager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00ff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Proper human resource motivation 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00ff00"/>
              </a:buClr>
              <a:buFont typeface="Times New Roman"/>
              <a:buAutoNum type="arabicPeriod" startAt="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Positive working conditions</a:t>
            </a: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8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FAEA-40E9-4FF5-A007-1250FA14244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762120" y="53316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ome Famous Employers in the World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838080" y="1905120"/>
          <a:ext cx="7620120" cy="4206600"/>
        </p:xfrm>
        <a:graphic>
          <a:graphicData uri="http://schemas.openxmlformats.org/drawingml/2006/table">
            <a:tbl>
              <a:tblPr/>
              <a:tblGrid>
                <a:gridCol w="1970280"/>
                <a:gridCol w="5649840"/>
              </a:tblGrid>
              <a:tr h="761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Employers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Key Drivers for Attractions &amp; Retention of Talent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344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Microsoft 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(USA)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Early responsibility in careers.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Flexible and transparent organizational 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culture.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Global opportunities through a variety of 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exposure and diverse experiences.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Exhaustive induction and orientation 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program. 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Competitive reward.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Performance recognition.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Innovative HR programs and practices.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E62B-B315-4568-8760-44A692FF52E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3160" y="1523520"/>
            <a:ext cx="2971800" cy="480060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8f8f8"/>
                </a:solidFill>
                <a:latin typeface="Times New Roman"/>
              </a:rPr>
              <a:t>Large brain size </a:t>
            </a:r>
            <a:endParaRPr b="0" lang="en-US" sz="1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8f8f8"/>
                </a:solidFill>
                <a:latin typeface="Times New Roman"/>
              </a:rPr>
              <a:t>Expanded planning and problem solving abilities </a:t>
            </a:r>
            <a:endParaRPr b="0" lang="en-US" sz="1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8f8f8"/>
                </a:solidFill>
                <a:latin typeface="Times New Roman"/>
              </a:rPr>
              <a:t>Complex cultural learning dependent on symbolic information </a:t>
            </a:r>
            <a:endParaRPr b="0" lang="en-US" sz="1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8f8f8"/>
                </a:solidFill>
                <a:latin typeface="Times New Roman"/>
              </a:rPr>
              <a:t>Dependence on technology for survival </a:t>
            </a:r>
            <a:endParaRPr b="0" lang="en-US" sz="1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8f8f8"/>
                </a:solidFill>
                <a:latin typeface="Times New Roman"/>
              </a:rPr>
              <a:t>Worldwide geographic distribution and adaptation to diverse climates and habitats </a:t>
            </a:r>
            <a:endParaRPr b="0" lang="en-US" sz="1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8f8f8"/>
                </a:solidFill>
                <a:latin typeface="Times New Roman"/>
              </a:rPr>
              <a:t>Greater social complexity</a:t>
            </a:r>
            <a:r>
              <a:rPr b="0" lang="en-US" sz="19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35320" y="533520"/>
            <a:ext cx="84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Human            Resource      Management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3733920" y="1523880"/>
            <a:ext cx="2514600" cy="4876920"/>
          </a:xfrm>
          <a:prstGeom prst="rect">
            <a:avLst/>
          </a:prstGeom>
          <a:noFill/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vailable source of wealth; a new or reserve supply that can be drawn upon when neede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6400800" y="1523880"/>
            <a:ext cx="2209680" cy="472464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Management is the art of getting things done through the efforts of others.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1600200" y="1143000"/>
            <a:ext cx="5335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4724280" y="1143000"/>
            <a:ext cx="5335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7162920" y="1143000"/>
            <a:ext cx="53316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3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075C-4276-4D81-A69B-511B9F9F41A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685800" y="213120"/>
            <a:ext cx="7772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ome Famous Employers in the World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3520" y="1219320"/>
          <a:ext cx="8001000" cy="5273640"/>
        </p:xfrm>
        <a:graphic>
          <a:graphicData uri="http://schemas.openxmlformats.org/drawingml/2006/table">
            <a:tbl>
              <a:tblPr/>
              <a:tblGrid>
                <a:gridCol w="2068560"/>
                <a:gridCol w="593244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Employers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Key Drivers for Attractions &amp; Retention of Talent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Beximco Pharma 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(BD)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Performance driven reward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Organization that believes in ‘growing our own timber’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Comprehensive development and learning programs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Flat organization, where performance could lead to very quick career progression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Challenging work content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Exhaustive induction and orientation program. 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Competitive reward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Procter &amp; Gamble 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(U.K)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Early responsibility in careers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Flexible and transparent organizational culture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Global opportunities through a variety of exposure and diverse experiences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Performance recognition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8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9638-D5B5-439A-BB53-BF13529B4E7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533520" y="365400"/>
            <a:ext cx="7924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ome Famous Employers in the World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838080" y="1447920"/>
          <a:ext cx="7467840" cy="3932280"/>
        </p:xfrm>
        <a:graphic>
          <a:graphicData uri="http://schemas.openxmlformats.org/drawingml/2006/table">
            <a:tbl>
              <a:tblPr/>
              <a:tblGrid>
                <a:gridCol w="1890720"/>
                <a:gridCol w="557712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Employers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Key Drivers for Attractions &amp; Retention of Talent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American Express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(USA)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Strong global brand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Value-based environment.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Pioneers in many people practices.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Summit Power Limited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(USA)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Learning &amp; growth opportunities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Competitive rewards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Opportunity to grow, learn, and implement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Strong social security and employee welfare performance oriented culture.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3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BD65-9B86-48C0-8037-0C072AD658A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609480" y="289080"/>
            <a:ext cx="7925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ome Famous Employers in the World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33520" y="1295280"/>
          <a:ext cx="8076960" cy="5486400"/>
        </p:xfrm>
        <a:graphic>
          <a:graphicData uri="http://schemas.openxmlformats.org/drawingml/2006/table">
            <a:tbl>
              <a:tblPr/>
              <a:tblGrid>
                <a:gridCol w="1741320"/>
                <a:gridCol w="6335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Employers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Key Drivers for Attractions &amp; Retention of Talent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Johnson &amp; Johnson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(U.K)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Strong values of trust, caring, fairness, and respect within the organization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Freedom to operate at work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Early responsibility in career 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Training and learning opportuniti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Visible, transparent, and accessible leader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Competitive rewards 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Innovative HR programs and practices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GlaxoSmithKline Consumer Healthcare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(U.K)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Performance driven reward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Organization that believes in ‘growing our own timber’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Comprehensive development and learning programs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Flat organization, where performance could lead to very quick career progression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Challenging work content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Exhaustive induction and orientation program. 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Competitive reward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1100-FBFF-4B88-95A2-8746B1BC5389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685800" y="289080"/>
            <a:ext cx="784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ome Famous Employers in the World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33520" y="1295280"/>
          <a:ext cx="8076960" cy="5181840"/>
        </p:xfrm>
        <a:graphic>
          <a:graphicData uri="http://schemas.openxmlformats.org/drawingml/2006/table">
            <a:tbl>
              <a:tblPr/>
              <a:tblGrid>
                <a:gridCol w="1752480"/>
                <a:gridCol w="63244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Employers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Key Drivers for Attractions &amp; Retention of Talent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Square Toiletries 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(BD)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Company brand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Open, transparent, and caring organization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Management according to the managing with respect to 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guiding principles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Training and development programs. 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Structured career planning proces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Global career opportuniti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Islami Bank Bangladesh Limited (IBBL)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(BD)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Company’s brand as an employer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High trust and confidence. 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Opportunities for rapid growth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High degree of autonomy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High ethical standard. 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Value compatibility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Innovative people programmers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Customers’ loyalty. 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3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E15E-CB7B-4D67-93A8-3A8F00C470C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533520" y="289080"/>
            <a:ext cx="7924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ome Famous Employers in the World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838080" y="1314360"/>
          <a:ext cx="7315200" cy="4572000"/>
        </p:xfrm>
        <a:graphic>
          <a:graphicData uri="http://schemas.openxmlformats.org/drawingml/2006/table">
            <a:tbl>
              <a:tblPr/>
              <a:tblGrid>
                <a:gridCol w="1890720"/>
                <a:gridCol w="5424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Employer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Key Drivers for Attractions &amp; Retention of Talent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PADMA Oil Corporation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(BD)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Company brand image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Work ethics.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Learning and growth opportunities.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Challenging work assignments.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Growing organization.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Sharing profit 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IBM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(USA)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High quality brand image.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Open, transparent, and caring organization.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Training and development programs. 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Structured career planning process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Competitive pay and benefit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B68E-FC01-4347-B641-C2B9C1AA1F4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762120" y="68544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Some Famous Employers in the World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696080" cy="3840120"/>
        </p:xfrm>
        <a:graphic>
          <a:graphicData uri="http://schemas.openxmlformats.org/drawingml/2006/table">
            <a:tbl>
              <a:tblPr/>
              <a:tblGrid>
                <a:gridCol w="1989000"/>
                <a:gridCol w="57070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Employers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Key Drivers for Attractions &amp; Retention of Talent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BRAC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(BD)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The group brand equity.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Strong corporate conveyance and citizenship.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Commitment to learning and development.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Best in people practices.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Challenging assignments.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8f8f8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Opportunity to work with Fortune 500 clients.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3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391D-CBC3-4680-868F-13B8DEFD8FAF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5" name="_s50183"/>
          <p:cNvSpPr/>
          <p:nvPr/>
        </p:nvSpPr>
        <p:spPr>
          <a:xfrm>
            <a:off x="304920" y="380880"/>
            <a:ext cx="8381880" cy="586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33ff"/>
              </a:gs>
              <a:gs pos="50000">
                <a:srgbClr val="000000"/>
              </a:gs>
              <a:gs pos="100000">
                <a:srgbClr val="9933ff"/>
              </a:gs>
            </a:gsLst>
            <a:lin ang="18900000"/>
          </a:gradFill>
          <a:ln w="3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imes New Roman"/>
              </a:rPr>
              <a:t>Thank You  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9931 -0.13728 -0.39844 -0.27455 -0.33021 -0.33117 C -0.26198 -0.3878 0.28733 -0.44303 0.40937 -0.34042 C 0.53142 -0.23781 0.52378 0.17403 0.40243 0.28496 C 0.28108 0.39589 -0.19566 0.43194 -0.31858 0.32517 C -0.44149 0.2184 -0.45608 -0.34758 -0.33472 -0.3559 C -0.21337 -0.36422 0.40781 0.16524 0.40937 0.27571 C 0.41094 0.38618 -0.32622 0.40929 -0.32552 0.30668 C -0.32483 0.20407 0.35434 -0.22024 0.41406 -0.34042 C 0.47378 -0.46059 0.09705 -0.53547 0.03264 -0.41483 C -0.03177 -0.2942 0.03142 0.32193 0.02795 0.38387 C 0.02448 0.44581 0.07031 0.02958 0.01163 -0.04321 C -0.04722 -0.11601 -0.39375 -0.04992 -0.32552 -0.05246 C -0.25729 -0.055 0.4276 -0.00346 0.42101 -0.0587 C 0.41441 -0.11393 -0.37292 -0.45759 -0.3651 -0.38387 C -0.35729 -0.31014 0.47222 0.25792 0.46753 0.38387 C 0.46285 0.50982 -0.38924 0.4985 -0.39288 0.37162 C -0.3967 0.24474 0.37691 -0.24867 0.44427 -0.37763 C 0.51163 -0.50635 0.14305 -0.44627 0.01163 -0.40235 C -0.11979 -0.35844 -0.34688 -0.17171 -0.3441 -0.1144 C -0.34132 -0.05708 -0.03403 -0.06794 0.02795 -0.0587 E">
                                      <p:cBhvr>
                                        <p:cTn id="594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F91E-F995-4947-9287-8B531E23C57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533520" y="368280"/>
            <a:ext cx="761976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Definition of Human Resource Management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Times New Roman"/>
              </a:rPr>
              <a:t>Ricky W. Griffin:</a:t>
            </a: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Human Resource Management is the set of organizational activities directed at attracting, developing and maintaining an effective work force.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Times New Roman"/>
              </a:rPr>
              <a:t>Gray Dessler:</a:t>
            </a: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The policies and practices involved in carrying out the people or human resource aspects of a management position including recruiting, screening, training, rewarding and appraising.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E87E-9BB6-4AA8-A9FF-C8EC080266B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641880"/>
            <a:ext cx="7620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Mathis and Jackson: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Human Resource Management is the use of Human Resources in an organization through the management of people related activities.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DeCenzo and P. Robbins: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Human Resource is comprised of the staffing, development, motivation and maintenance functions. Each of these functions however is affected by external influences.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CCA6-CB4B-4287-9A4E-3FF56C20160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504360"/>
            <a:ext cx="7620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Milkovich &amp; Boudreau: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Human Resource Management is a series of decisions that affect the relationship between employees and employers; it affects many constituencies and is intended to influence the effectiveness of employees and employers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Dale Yoder: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Human Resource Management is the provision of leadership and direction of people in their working or employment relationship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C0DC-D772-41F9-9142-E14A21F2535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685800" y="863640"/>
            <a:ext cx="762012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Dr. M. Ataur Rahman:</a:t>
            </a: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imes New Roman"/>
              </a:rPr>
              <a:t>Human Resource Management may be defined as a set of activities which include acquisition, development, motivation, maintenance and utilization of manpower for the purpose of effective and timely achievement of organizational goal/s.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Introduction to HRM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3F74-F4C5-4F2A-9181-61536086682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143000" y="685800"/>
            <a:ext cx="739152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ff00"/>
                </a:solidFill>
                <a:latin typeface="Times New Roman"/>
              </a:rPr>
              <a:t>Characteristics of Human Resource Management</a:t>
            </a:r>
            <a:endParaRPr b="0" lang="en-US" sz="3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Development of well HR policy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Development of harmonious relations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Establishing a chain of command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Awareness of own nature of services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Acquire full professional and operational knowledge: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8f8f8"/>
              </a:buClr>
              <a:buFont typeface="Times New Roman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8f8f8"/>
                </a:solidFill>
                <a:latin typeface="Times New Roman"/>
              </a:rPr>
              <a:t>Must be good communicative and effective leader:</a:t>
            </a: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12:12:02Z</dcterms:created>
  <dc:creator>rony</dc:creator>
  <dc:description/>
  <dc:language>en-US</dc:language>
  <cp:lastModifiedBy>Ataur Rahman</cp:lastModifiedBy>
  <dcterms:modified xsi:type="dcterms:W3CDTF">2024-10-26T12:23:45Z</dcterms:modified>
  <cp:revision>287</cp:revision>
  <dc:subject/>
  <dc:title>Slide 1</dc:title>
</cp:coreProperties>
</file>